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4CFC1-4635-49A0-8CBE-E737F111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0A7EF-3338-4776-A651-6AA66D14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678C6-AD21-4AE5-814E-585055FF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EDC2F-9E0D-4739-8BE7-30E7E73C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1A6C6-8A04-4EA7-B8A2-CF83654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AB409-BFE1-4105-8C4E-7E5EF161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68523-B9EF-4D4E-859F-4906A6C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5FFFE-203F-4FF2-94ED-B393055A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7607E-121D-4BC5-B9F4-E8F62C8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247B5-88D4-43FF-87F1-F179DAB9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2D0A2-514A-41DD-8AE1-81E2FA95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B3D7C-07A3-467E-88AD-6E8E7400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2057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736C-9F8F-4A62-AD59-11648A6D35CC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image" Target="../media/image11.jpeg"/><Relationship Id="rId7" Type="http://schemas.openxmlformats.org/officeDocument/2006/relationships/hyperlink" Target="file:///tmp/home/.config/libreoffice/4/user/gallery/camera.wav" TargetMode="External"/><Relationship Id="rId8" Type="http://schemas.openxmlformats.org/officeDocument/2006/relationships/image" Target="../media/image11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-1,20,&#20998;&#26512;" TargetMode="External"/><Relationship Id="rId3" Type="http://schemas.openxmlformats.org/officeDocument/2006/relationships/image" Target="../media/image9.jpeg"/><Relationship Id="rId4" Type="http://schemas.openxmlformats.org/officeDocument/2006/relationships/hyperlink" Target="267,14,&#32993;&#23376;" TargetMode="External"/><Relationship Id="rId5" Type="http://schemas.openxmlformats.org/officeDocument/2006/relationships/hyperlink" Target="268,15,&#30473;&#27611;" TargetMode="External"/><Relationship Id="rId6" Type="http://schemas.openxmlformats.org/officeDocument/2006/relationships/hyperlink" Target="269,16,&#22836;&#21457;" TargetMode="External"/><Relationship Id="rId7" Type="http://schemas.openxmlformats.org/officeDocument/2006/relationships/hyperlink" Target="288,27,&#20854;&#23427;&#22806;&#35980;" TargetMode="External"/><Relationship Id="rId8" Type="http://schemas.openxmlformats.org/officeDocument/2006/relationships/hyperlink" Target="271,18,&#30524;&#30555;" TargetMode="External"/><Relationship Id="rId9" Type="http://schemas.openxmlformats.org/officeDocument/2006/relationships/hyperlink" Target="270,17,&#40763;&#23376;" TargetMode="External"/><Relationship Id="rId10" Type="http://schemas.openxmlformats.org/officeDocument/2006/relationships/image" Target="../media/image4.jpeg"/><Relationship Id="rId11" Type="http://schemas.openxmlformats.org/officeDocument/2006/relationships/hyperlink" Target="294,28,&#20854;&#23427;&#22806;&#35980;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033800" cy="5589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60213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95960" y="333360"/>
            <a:ext cx="1521000" cy="74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天才的十分之一是灵感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十分之九是血汗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2080" y="0"/>
            <a:ext cx="4586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80600" y="333360"/>
            <a:ext cx="29361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隶书"/>
              </a:rPr>
              <a:t>列夫</a:t>
            </a:r>
            <a:r>
              <a:rPr b="0" lang="en-US" sz="6000" spc="-1" strike="noStrike">
                <a:solidFill>
                  <a:srgbClr val="333333"/>
                </a:solidFill>
                <a:latin typeface="Times New Roman"/>
                <a:ea typeface="隶书"/>
              </a:rPr>
              <a:t>·</a:t>
            </a: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隶书"/>
              </a:rPr>
              <a:t>托尔斯泰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[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俄国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]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4520880" cy="561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43080" y="0"/>
            <a:ext cx="4545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胡子（长髯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长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覆盖了两颊，遮住了嘴唇，遮住了皱似树皮的黝黑脸膛。一根根迎风飘动，颇有长者风度”。 （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“…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他那天父般的犹如卷起的滔滔白浪的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大胡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。（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眉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宽约一指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眉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像纠缠不清的树根，朝上倒竖。”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头发（鬈发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绺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li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灰白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鬈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像泡沫一样堆在额头上。不管从哪个角度看，你都能见到热带森林般茂密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须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。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鼻子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见到的是一只宽宽的、两孔朝天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狮子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仿佛被人一拳头打塌了的样子”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眼睛（目光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072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那对浓似灌木丛的眉毛下面，一对灰色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眼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射出一道黑豹似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目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虽然每个见过托尔斯泰的人都谈过这种犀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目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但再好的图片都没法加以反映。这道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目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像一把成锃亮的钢刀刺了过来，又稳又准，击中要害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、“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它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像枪弹穿透了伪装的甲胄，它像金刚刀切开了玻璃”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“托尔斯泰这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眼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里有一百只眼珠。”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…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这对珠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魔力，有磁性，可以把人世间的物质吸进去，然后向我们这个时代放射出精确无误的频波。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当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这一副寒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射的匕首转而对准它们的主人时是十分可怕的，因为锋刃无情，直戳要害，正好刺中了他的心窝。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其它外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19280" y="1196640"/>
            <a:ext cx="6913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生就一副多毛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脸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植被多于空地，浓密的胡须使人难以看清他的内心世界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44280" y="118116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脸庞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236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额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133720"/>
            <a:ext cx="691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架在小窗上方的横梁——小眼睛上方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额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倒像是用刀胡乱劈成的树柴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1080" y="29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皮肤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2997360"/>
            <a:ext cx="6913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皮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藏污纳垢，缺少光泽，就像用枝条扎成的村舍外墙那样粗糙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40320" y="38606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耳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6200" y="3860640"/>
            <a:ext cx="6913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乱蓬蓬的头发后面，怎么也遮不住那对难看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招风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99640" y="465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嘴唇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46200" y="4724280"/>
            <a:ext cx="7129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凹陷的脸颊中间生着两片厚厚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嘴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外貌给人总印象（总特点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90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托尔斯泰给人留下的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难忘形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，来源于他那天父般的犹如卷起的滔滔白浪的大胡子。 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留给人的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总印象是失调、崎岖、平庸，甚至粗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 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从少年到青壮年，甚至到老年，托尔斯泰一直都是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长相平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，混在人群里找都找不出来。  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他的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面相完全没有特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，完全属于普通的俄罗斯人，因此，我们得把他称为普通人，而且此刻会产生这么一种感觉，即天才没有任何特殊的长相，而是一般人的总体现。所以说，托尔斯泰并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没有自己独特的面相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，他拥有一张俄围普通大众的脸，因为他与全体俄国人民同呼吸共命运。  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每个见过托尔斯泰的人都谈过这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犀利目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，但再好的图片都没法加以反映。（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归纳：长相平平，目光犀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8520" y="259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托尔斯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319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列夫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·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托尔斯泰（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28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1910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），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19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世纪俄国最伟大的作家。出生于贵族家庭，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40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入喀山大学，受到卢梭、孟德斯鸠等启蒙思想家影响。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47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退学回故乡在自己领地上作改革农奴制的尝试。 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51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54</a:t>
            </a:r>
            <a:r>
              <a:rPr b="1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在高加索军队中服役并开始写作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367240" y="1411200"/>
            <a:ext cx="3413160" cy="46818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0" name=""/>
          <p:cNvSpPr/>
          <p:nvPr/>
        </p:nvSpPr>
        <p:spPr>
          <a:xfrm>
            <a:off x="3997440" y="6237360"/>
            <a:ext cx="504720" cy="504720"/>
          </a:xfrm>
          <a:custGeom>
            <a:avLst/>
            <a:gdLst>
              <a:gd name="textAreaLeft" fmla="*/ 31320 w 504720"/>
              <a:gd name="textAreaRight" fmla="*/ 473400 w 50472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573440" y="6237360"/>
            <a:ext cx="503280" cy="503280"/>
          </a:xfrm>
          <a:custGeom>
            <a:avLst/>
            <a:gdLst>
              <a:gd name="textAreaLeft" fmla="*/ 31320 w 503280"/>
              <a:gd name="textAreaRight" fmla="*/ 471960 w 50328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520" y="1890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托尔斯泰主要作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5038560" cy="54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战争与和平》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（长篇小说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安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卡列尼娜》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（长篇小说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复活》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（长篇小说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>
            <a:hlinkClick r:id="rId5"/>
          </p:cNvPr>
          <p:cNvSpPr/>
          <p:nvPr/>
        </p:nvSpPr>
        <p:spPr>
          <a:xfrm>
            <a:off x="4319640" y="6237360"/>
            <a:ext cx="504720" cy="504720"/>
          </a:xfrm>
          <a:custGeom>
            <a:avLst/>
            <a:gdLst>
              <a:gd name="textAreaLeft" fmla="*/ 31320 w 504720"/>
              <a:gd name="textAreaRight" fmla="*/ 473400 w 50472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nextslide"/>
            <a:hlinkClick r:id="rId7"/>
          </p:cNvPr>
          <p:cNvSpPr/>
          <p:nvPr/>
        </p:nvSpPr>
        <p:spPr>
          <a:xfrm>
            <a:off x="4896000" y="6237360"/>
            <a:ext cx="502920" cy="503280"/>
          </a:xfrm>
          <a:custGeom>
            <a:avLst/>
            <a:gdLst>
              <a:gd name="textAreaLeft" fmla="*/ 31320 w 502920"/>
              <a:gd name="textAreaRight" fmla="*/ 471600 w 50292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50" y="20265"/>
                </a:lnTo>
                <a:lnTo>
                  <a:pt x="20250" y="135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350" y="20265"/>
                </a:lnTo>
                <a:lnTo>
                  <a:pt x="20250" y="2026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65"/>
                </a:lnTo>
                <a:close/>
              </a:path>
              <a:path fill="darken" w="21600" h="21615">
                <a:moveTo>
                  <a:pt x="3756" y="3764"/>
                </a:moveTo>
                <a:lnTo>
                  <a:pt x="17844" y="10808"/>
                </a:lnTo>
                <a:lnTo>
                  <a:pt x="3756" y="17851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3745080" y="6237360"/>
            <a:ext cx="502920" cy="503280"/>
          </a:xfrm>
          <a:custGeom>
            <a:avLst/>
            <a:gdLst>
              <a:gd name="textAreaLeft" fmla="*/ 31320 w 502920"/>
              <a:gd name="textAreaRight" fmla="*/ 471600 w 50292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50" y="20265"/>
                </a:lnTo>
                <a:lnTo>
                  <a:pt x="20250" y="135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350" y="20265"/>
                </a:lnTo>
                <a:lnTo>
                  <a:pt x="20250" y="2026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65"/>
                </a:lnTo>
                <a:close/>
              </a:path>
              <a:path fill="darken" w="21600" h="21615">
                <a:moveTo>
                  <a:pt x="3756" y="10808"/>
                </a:moveTo>
                <a:lnTo>
                  <a:pt x="17844" y="3764"/>
                </a:lnTo>
                <a:lnTo>
                  <a:pt x="17844" y="17851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5796000" y="1268280"/>
            <a:ext cx="2927160" cy="422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528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课文前半部分对于托尔斯泰的肖像描写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突出了哪两个方面的特点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它们分别对塑造人物形象有何作用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2924280"/>
            <a:ext cx="2362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平庸丑陋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大众化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3429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508464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40360" y="29242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灵魂的高贵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眼睛的精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429264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是人民大众的普通一员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与俄国人民同呼吸共命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2852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反衬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说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40720" y="3284640"/>
            <a:ext cx="573120" cy="2351160"/>
          </a:xfrm>
          <a:custGeom>
            <a:avLst/>
            <a:gdLst>
              <a:gd name="textAreaLeft" fmla="*/ 0 w 573120"/>
              <a:gd name="textAreaRight" fmla="*/ 207000 w 573120"/>
              <a:gd name="textAreaTop" fmla="*/ 61200 h 2351160"/>
              <a:gd name="textAreaBottom" fmla="*/ 2289960 h 235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7"/>
                </a:lnTo>
                <a:cubicBezTo>
                  <a:pt x="10800" y="9907"/>
                  <a:pt x="16200" y="10807"/>
                  <a:pt x="21600" y="10807"/>
                </a:cubicBezTo>
                <a:cubicBezTo>
                  <a:pt x="16200" y="10807"/>
                  <a:pt x="10800" y="11707"/>
                  <a:pt x="10800" y="1260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15000" y="3614760"/>
            <a:ext cx="729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欲扬先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221200" cy="324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724360" y="404640"/>
            <a:ext cx="313380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96000" y="508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斯蒂芬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·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茨威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3284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他的写作成就以小说和人物传记见著。代表作有小说《最初的经历》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《一个陌生女人的来信》等；传记《三位大师》、《罗曼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·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罗兰》等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20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斯蒂芬</a:t>
            </a:r>
            <a:r>
              <a:rPr b="0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茨威格（</a:t>
            </a:r>
            <a:r>
              <a:rPr b="0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1881—1942</a:t>
            </a:r>
            <a:r>
              <a:rPr b="0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），奥地利著名小说家、传记作家，出身于富裕的犹太家庭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夸张作用分析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1342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对托尔斯泰外貌的描写，除了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比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，还大量运用了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夸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修辞手法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夸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在描写人或事物时，故意言过其实，尽量作扩大或缩小的描述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3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……）夸张可分为扩大夸张、缩小夸张、超前夸张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夸张的作用：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突出事物的本质，或加强作者的某种感情，烘托气氛，引起读者丰富的想象和强烈共鸣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它像枪弹穿透了伪装的甲胄，它像金刚刀切开了玻璃。”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这句话用了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比喻兼夸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修辞手法，把托尔斯泰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目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敏锐、犀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表现得极为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生动形象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而且能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引起读者丰富的想象和联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00000" y="6922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黑体"/>
                <a:ea typeface="黑体"/>
              </a:rPr>
              <a:t>P3</a:t>
            </a:r>
            <a:r>
              <a:rPr b="1" lang="zh-CN" sz="4000" spc="-1" strike="noStrike">
                <a:solidFill>
                  <a:srgbClr val="333333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333333"/>
                </a:solidFill>
                <a:latin typeface="黑体"/>
                <a:ea typeface="黑体"/>
              </a:rPr>
              <a:t>二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205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托尔斯泰这对眼睛里有一百只眼珠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高尔基的这句话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夸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恰当地道出了托尔斯泰那种能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把万事万物尽收眼底的全方位的观察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836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2. ……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这对珠宝有魔力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有磁性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可以把人世间的物质吸进去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然后向我们这个时代放射出精确无误的频波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3141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托尔斯泰的文学创作，既来自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社会生活、人间事态的观察和研究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同时又用他的艺术巨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把它们准确地表现出来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展示了时代的本质和要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当这一副寒光四射的匕首转而对准它们的主人时是十分可怕的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因为锋刃无情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直戳要害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正好刺中他的心窝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500280"/>
            <a:ext cx="77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写出了托尔斯泰作为“清醒的现实主义”作家，对现实的批判是极其深刻而准确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0000" y="227664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442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列夫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托尔斯泰名言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8000" y="620640"/>
            <a:ext cx="8856720" cy="46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　　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．人生不是一种享乐，而是一桩十分沉重的工作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　  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．人生的价值，并不是用时间，而是用深度去衡量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　  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．一切利己的生活，都是非理性的动物的生活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　  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．心灵纯洁的人， 生活充满甜蜜和喜悦。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74560" y="4081680"/>
            <a:ext cx="839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6.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幸福的家庭是相同的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不幸的家庭各有各的不幸 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341360"/>
            <a:ext cx="84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5.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人不是因为美丽才可爱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而是因为可爱才美丽。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6360" y="981000"/>
            <a:ext cx="5329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世上最美的坟墓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上面开满鲜花，没有十字架，没有墓碑，没有墓志铭，连托尔斯泰这个名字也没有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------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人生最后的休止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21440" y="1844640"/>
            <a:ext cx="3887640" cy="488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4360" y="765000"/>
            <a:ext cx="7993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楷体"/>
              </a:rPr>
              <a:t>卢梭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睡在这里的是一个热爱自然和真理的人。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楷体"/>
              </a:rPr>
              <a:t>马克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华文楷体"/>
              </a:rPr>
              <a:t>-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楷体"/>
              </a:rPr>
              <a:t>吐温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他观察着世态的变化，但讲述的却是人间的真理。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楷体"/>
              </a:rPr>
              <a:t>贝多芬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他总是以他自己的一颗人类的善心对待所有的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5640" y="1557360"/>
            <a:ext cx="78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楷体"/>
              </a:rPr>
              <a:t>大文豪萧伯纳的墓志铭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我早就知道无论我活多久，这种事情还是一定会发生。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楷体"/>
              </a:rPr>
              <a:t>大作家海明威的墓志铭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恕我不起来了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26920" y="1413000"/>
            <a:ext cx="78487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华文楷体"/>
                <a:ea typeface="华文楷体"/>
              </a:rPr>
              <a:t>16</a:t>
            </a:r>
            <a:r>
              <a:rPr b="1" lang="zh-CN" sz="3200" spc="-1" strike="noStrike">
                <a:solidFill>
                  <a:srgbClr val="333333"/>
                </a:solidFill>
                <a:latin typeface="华文楷体"/>
                <a:ea typeface="华文楷体"/>
              </a:rPr>
              <a:t>世纪德国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华文楷体"/>
                <a:ea typeface="华文楷体"/>
              </a:rPr>
              <a:t>数学家鲁道夫</a:t>
            </a:r>
            <a:r>
              <a:rPr b="1" lang="zh-CN" sz="3200" spc="-1" strike="noStrike">
                <a:solidFill>
                  <a:srgbClr val="333333"/>
                </a:solidFill>
                <a:latin typeface="华文楷体"/>
                <a:ea typeface="华文楷体"/>
              </a:rPr>
              <a:t>花了毕生的精力，把圆周率计算到小数后</a:t>
            </a:r>
            <a:r>
              <a:rPr b="1" lang="en-US" sz="3200" spc="-1" strike="noStrike">
                <a:solidFill>
                  <a:srgbClr val="333333"/>
                </a:solidFill>
                <a:latin typeface="华文楷体"/>
                <a:ea typeface="华文楷体"/>
              </a:rPr>
              <a:t>35</a:t>
            </a:r>
            <a:r>
              <a:rPr b="1" lang="zh-CN" sz="3200" spc="-1" strike="noStrike">
                <a:solidFill>
                  <a:srgbClr val="333333"/>
                </a:solidFill>
                <a:latin typeface="华文楷体"/>
                <a:ea typeface="华文楷体"/>
              </a:rPr>
              <a:t>位，是当时世界上最精确的圆周率数值。在他的墓碑上就刻着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π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3.14159265358979323846264338327950288”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60280"/>
            <a:ext cx="8893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给下列字注音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胡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 ) 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长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髯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 )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两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颊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（         ）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绺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（        ）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鬈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)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发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黝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)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黑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滞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)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留        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钝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)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锢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) 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轩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   )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昂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犀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)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利   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儒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 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酒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肆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)   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尴尬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       )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锃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)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亮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甲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    )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粲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)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然 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盎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)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然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（           ）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粗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糙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（         ）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蒙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昧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（          ）实    热泪涟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涟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（        ）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戳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（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9079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ī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9079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á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32720" y="9079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i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15573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liǔ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55736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quá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1557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ǒ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133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h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13372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ù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220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852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uā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2852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ī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8160" y="285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Gulim"/>
                <a:ea typeface="Gulim"/>
              </a:rPr>
              <a:t>zhū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500280"/>
            <a:ext cx="12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3429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ā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3500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è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14972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hò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4076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à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07664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à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724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qió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ā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724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è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373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ū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537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liá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5373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huō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162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郁 郁  寡 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52560" y="119700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Yù yù guǎ huān</a:t>
            </a:r>
            <a:r>
              <a:rPr b="1" lang="en-US" sz="3200" spc="-1" strike="noStrike">
                <a:solidFill>
                  <a:srgbClr val="ff0000"/>
                </a:solidFill>
                <a:latin typeface="Gulim"/>
                <a:ea typeface="Gulim"/>
              </a:rPr>
              <a:t>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 hè  lì  jī  qú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280" y="3357720"/>
            <a:ext cx="87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chéng huáng chéng kǒng </a:t>
            </a:r>
            <a:r>
              <a:rPr b="1" lang="en-US" sz="3200" spc="-1" strike="noStrike">
                <a:solidFill>
                  <a:srgbClr val="ff0000"/>
                </a:solidFill>
                <a:latin typeface="Gulim"/>
                <a:ea typeface="Gulim"/>
              </a:rPr>
              <a:t>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wú kě zhì yí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8560" y="4437000"/>
            <a:ext cx="87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àn rán shī sè </a:t>
            </a:r>
            <a:r>
              <a:rPr b="1" lang="en-US" sz="3200" spc="-1" strike="noStrike">
                <a:solidFill>
                  <a:srgbClr val="ff0000"/>
                </a:solidFill>
                <a:latin typeface="Gulim"/>
                <a:ea typeface="Gulim"/>
              </a:rPr>
              <a:t>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 guǎng mào wú yí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494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广  袤   无 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0920" y="2349360"/>
            <a:ext cx="84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zhèng jīn wēi zuò</a:t>
            </a:r>
            <a:r>
              <a:rPr b="1" lang="en-US" sz="3200" spc="-1" strike="noStrike">
                <a:solidFill>
                  <a:srgbClr val="ff0000"/>
                </a:solidFill>
                <a:latin typeface="Gulim"/>
                <a:ea typeface="Gulim"/>
              </a:rPr>
              <a:t>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hàn shǒu dī méi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Medium"/>
                <a:ea typeface="Dotum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70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鹤 立 鸡 群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4560" y="278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正   襟 危  坐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8920" y="27813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颔  首  低 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86064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诚    惶    诚    恐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386064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无 可 置 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08000" y="4869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黯 然 失 色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62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粗  制  滥  造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62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藏   污  纳  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4280"/>
            <a:ext cx="85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ulim"/>
                <a:ea typeface="Gulim"/>
              </a:rPr>
              <a:t> 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cū zhì làn zào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Gulim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Gulim"/>
                <a:ea typeface="Gulim"/>
              </a:rPr>
              <a:t>cáng wū nà gòu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Franklin Gothic Medium"/>
                <a:ea typeface="Dotum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18900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．解释下列词语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黝黑：黑；黑暗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滞留：停留不动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愚钝：愚笨；不伶俐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器宇：人的外表；风度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禁锢：束缚，限制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轩昂：形容精神饱满，气度不凡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犀利：锋利；锐利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侏儒：身材异常矮小的人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酒肆：酒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尴尬：处境困难，不好处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炽热：极热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89000"/>
            <a:ext cx="885816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粗制滥造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指产品制作粗劣，不讲究质量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藏污纳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比喻包容坏人坏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郁郁寡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心情不舒畅，不快乐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鹤立鸡群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比喻一个人的才能或仪表在一群人里头显得很突出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正襟危坐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理好衣襟端端正正坐着。形容严肃庄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重的样子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诚惶诚恐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惶恐不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广袤无垠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广阔无边。古代以东西长度为“广“，南北长度为“袤”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颔首低眉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低着头显得很谦卑恭顺的样子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无可置疑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没有什么可被怀疑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黯然失色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：用以表示相形之下暗淡无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50920" y="2421000"/>
            <a:ext cx="79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黑体"/>
                <a:ea typeface="黑体"/>
              </a:rPr>
              <a:t>文章主要分为几个部分？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黑体"/>
                <a:ea typeface="黑体"/>
              </a:rPr>
              <a:t>每部分主要内容是什么？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2708280"/>
            <a:ext cx="574560" cy="216000"/>
          </a:xfrm>
          <a:custGeom>
            <a:avLst/>
            <a:gdLst>
              <a:gd name="textAreaLeft" fmla="*/ 0 w 574560"/>
              <a:gd name="textAreaRight" fmla="*/ 574920 w 574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724280"/>
            <a:ext cx="574560" cy="216000"/>
          </a:xfrm>
          <a:custGeom>
            <a:avLst/>
            <a:gdLst>
              <a:gd name="textAreaLeft" fmla="*/ 0 w 574560"/>
              <a:gd name="textAreaRight" fmla="*/ 574920 w 574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105264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默读课文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000" y="4762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文章分为两个部分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      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29242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（     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8720" y="119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—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997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6—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97080" y="15573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主要刻画了托尔斯泰的外貌特征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33577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着重刻画托尔斯泰那非比寻常的眼睛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找出文中对托尔斯泰外貌描写的句子，体会其</a:t>
            </a:r>
            <a:r>
              <a:rPr b="0" lang="zh-CN" sz="32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  <a:hlinkClick r:id="rId2"/>
              </a:rPr>
              <a:t>作用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070600" y="1844640"/>
            <a:ext cx="3030480" cy="367200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6" name=""/>
          <p:cNvSpPr/>
          <p:nvPr/>
        </p:nvSpPr>
        <p:spPr>
          <a:xfrm>
            <a:off x="3780000" y="1413000"/>
            <a:ext cx="1008000" cy="5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  <a:hlinkClick r:id="rId4"/>
              </a:rPr>
              <a:t>胡子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2133720"/>
            <a:ext cx="1008000" cy="5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  <a:hlinkClick r:id="rId5"/>
              </a:rPr>
              <a:t>眉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2924280"/>
            <a:ext cx="1008000" cy="5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  <a:hlinkClick r:id="rId6"/>
              </a:rPr>
              <a:t>头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5084640"/>
            <a:ext cx="1008000" cy="5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  <a:hlinkClick r:id="rId7"/>
              </a:rPr>
              <a:t>其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4221000"/>
            <a:ext cx="1008000" cy="5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  <a:hlinkClick r:id="rId8"/>
              </a:rPr>
              <a:t>眼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3573360"/>
            <a:ext cx="1008000" cy="5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  <a:hlinkClick r:id="rId9"/>
              </a:rPr>
              <a:t>鼻子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755640" y="1916280"/>
            <a:ext cx="2784600" cy="36003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3" name=""/>
          <p:cNvSpPr/>
          <p:nvPr/>
        </p:nvSpPr>
        <p:spPr>
          <a:xfrm>
            <a:off x="3203640" y="6021360"/>
            <a:ext cx="2087640" cy="5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  <a:hlinkClick r:id="rId11"/>
              </a:rPr>
              <a:t>总印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05:54:15Z</dcterms:created>
  <dc:creator/>
  <dc:description/>
  <dc:language>en-US</dc:language>
  <cp:lastModifiedBy>微软用户</cp:lastModifiedBy>
  <dcterms:modified xsi:type="dcterms:W3CDTF">2015-03-18T02:53:17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